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E2F4F-8C3E-4091-8DD3-A469620A7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6E44A-1FD4-49F9-9641-383945E25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60F6D-F162-442D-97B0-DC744FD09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519FD-B21E-4891-962F-77F2469F1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EF18B-9D8A-46A7-93A4-FDCF7E27A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9F086-7124-4A6E-B80A-20E75CADD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4254C-490E-4738-941F-490142639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7C66F-8430-4A9F-AC28-6C4616B8C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7E5AA-B6DF-4158-9928-EA0C66DF4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19FB7-552A-4E3B-A985-965D6C129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0302E-1D48-46CA-8047-A95CDB723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8933C-2690-4397-B069-AC7F24B31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C1083-C23E-4CC7-B389-54396538B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B7491-AF8F-429C-8265-A3818E037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00B2F-83C1-4BA1-8E80-A0EFAF951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ECD95-DE9F-4CF1-9C34-D5065174B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C0F6C-FD40-46AB-8AD1-E9C328C8C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F5BA2-CE26-4D22-8D83-3747E3056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5414C-434E-43FB-B603-08EEEF5D3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8D1E8-5864-479D-9FD5-DD27ED103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7F93E-2943-4298-9A65-A4CF75B55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E4B23-1A18-4344-8FC6-A05723780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BAD82-6048-4822-88BE-70165878B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AF6E8-6B6A-4C12-8A4E-DC8587D19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94DA-FB54-48D5-8861-E8B08FD3BA3B}" type="slidenum">
              <a:rPr b="0" lang="ro-RO"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1CD4-F6FB-4B3D-9D29-50F323EA2630}" type="slidenum">
              <a:rPr b="0" lang="ro-RO"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fr.wikipedia.org/wiki/Capitale_de_la_France" TargetMode="Externa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14360" y="1365120"/>
            <a:ext cx="8242200" cy="210348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Book Antiqua"/>
              </a:rPr>
              <a:t>E</a:t>
            </a:r>
            <a:r>
              <a:rPr b="0" lang="ro-RO" sz="4100" spc="-1" strike="noStrike">
                <a:solidFill>
                  <a:srgbClr val="ffffff"/>
                </a:solidFill>
                <a:latin typeface="Book Antiqua"/>
              </a:rPr>
              <a:t>crit par</a:t>
            </a:r>
            <a:r>
              <a:rPr b="0" lang="en-US" sz="4100" spc="-1" strike="noStrike">
                <a:solidFill>
                  <a:srgbClr val="ffffff"/>
                </a:solidFill>
                <a:latin typeface="Book Antiqua"/>
              </a:rPr>
              <a:t> Sasu Alexandru, Milicin Razvan et Miercure Andrei</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549360"/>
            <a:ext cx="8229600" cy="575928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Book Antiqua"/>
              </a:rPr>
              <a:t>L’avenue des Champs-Élysées (ou simplement les Champs-Élysées, parfois même les Champs) est une grande et célèbre avenue de Paris. Elle est considérée par beaucoup comme la plus belle avenue de la capitale, et, selon une expression couramment utilisée en France et principalement par les Parisiens, comme la plus belle avenue du monde3. Elle tire son nom des champs Élysées, le lieu des Enfers où séjournaient les âmes vertueuses dans la mythologie grecque. C'est aussi un des principaux lieux touristiques de la capita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Picture 2" descr="C:\Users\elev\Desktop\469px-Champs-Élysées.jpg"/>
          <p:cNvPicPr/>
          <p:nvPr/>
        </p:nvPicPr>
        <p:blipFill>
          <a:blip r:embed="rId2"/>
          <a:stretch/>
        </p:blipFill>
        <p:spPr>
          <a:xfrm>
            <a:off x="4067280" y="476280"/>
            <a:ext cx="4465440" cy="5705280"/>
          </a:xfrm>
          <a:prstGeom prst="rect">
            <a:avLst/>
          </a:prstGeom>
          <a:ln w="0">
            <a:noFill/>
          </a:ln>
        </p:spPr>
      </p:pic>
      <p:sp>
        <p:nvSpPr>
          <p:cNvPr id="98" name="TextBox 7"/>
          <p:cNvSpPr/>
          <p:nvPr/>
        </p:nvSpPr>
        <p:spPr>
          <a:xfrm>
            <a:off x="826920" y="476280"/>
            <a:ext cx="280836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ook Antiqua"/>
              </a:rPr>
              <a:t>L'avenue des Champs-Élysées est située dans le 8e arrondissement de Paris, au nord-ouest de la ville. Elle s'étend sur 1 910 mètres, d'est en ouest, reliant la place de la Concorde, où se dresse l'Obélisque, et la place Charles-de-Gaulle (ancienne place de l'Étoile), située au sommet de la butte de Chaillot (ce qui explique le dénivelé entre les deux extrémités), au centre de laquelle se trouve l’arc de triomphe de l'Étoile. Sa largeur est de 70 mètres (30 mètres sont occupés par une 2x4 voies, tandis que le reste accueille deux trottoirs de20 mètres chacun).</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Title 1" descr=""/>
          <p:cNvPicPr/>
          <p:nvPr/>
        </p:nvPicPr>
        <p:blipFill>
          <a:blip r:embed="rId1"/>
          <a:stretch/>
        </p:blipFill>
        <p:spPr>
          <a:xfrm>
            <a:off x="390600" y="1542960"/>
            <a:ext cx="8240760" cy="263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836640"/>
            <a:ext cx="8229600" cy="547200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Book Antiqua"/>
              </a:rPr>
              <a:t>Paris commune la plus peuplée et capitale de la</a:t>
            </a:r>
            <a:r>
              <a:rPr b="0" lang="fr-FR" sz="2800" spc="-1" strike="noStrike" u="sng">
                <a:solidFill>
                  <a:srgbClr val="410082"/>
                </a:solidFill>
                <a:uFillTx/>
                <a:latin typeface="Book Antiqua"/>
                <a:hlinkClick r:id="rId1"/>
              </a:rPr>
              <a:t> </a:t>
            </a:r>
            <a:r>
              <a:rPr b="0" lang="fr-FR" sz="2800" spc="-1" strike="noStrike">
                <a:solidFill>
                  <a:srgbClr val="000000"/>
                </a:solidFill>
                <a:latin typeface="Book Antiqua"/>
              </a:rPr>
              <a:t>France, chef-lieu de la </a:t>
            </a:r>
            <a:r>
              <a:rPr b="0" lang="ro-RO" sz="2800" spc="-1" strike="noStrike">
                <a:solidFill>
                  <a:srgbClr val="ffffff"/>
                </a:solidFill>
                <a:latin typeface="Book Antiqua"/>
              </a:rPr>
              <a:t> </a:t>
            </a:r>
            <a:r>
              <a:rPr b="0" lang="ro-RO" sz="2800" spc="-1" strike="noStrike">
                <a:solidFill>
                  <a:srgbClr val="000000"/>
                </a:solidFill>
                <a:latin typeface="Book Antiqua"/>
              </a:rPr>
              <a:t>région </a:t>
            </a:r>
            <a:r>
              <a:rPr b="0" lang="ro-RO" sz="2800" spc="-1" strike="noStrike">
                <a:solidFill>
                  <a:srgbClr val="ffffff"/>
                </a:solidFill>
                <a:latin typeface="Book Antiqua"/>
              </a:rPr>
              <a:t>  </a:t>
            </a:r>
            <a:r>
              <a:rPr b="0" lang="ro-RO" sz="2800" spc="-1" strike="noStrike">
                <a:solidFill>
                  <a:srgbClr val="000000"/>
                </a:solidFill>
                <a:latin typeface="Book Antiqua"/>
              </a:rPr>
              <a:t>Île-de-France</a:t>
            </a:r>
            <a:r>
              <a:rPr b="0" lang="ro-RO" sz="2800" spc="-1" strike="noStrike">
                <a:solidFill>
                  <a:srgbClr val="ffffff"/>
                </a:solidFill>
                <a:latin typeface="Book Antiqua"/>
              </a:rPr>
              <a:t> </a:t>
            </a:r>
            <a:r>
              <a:rPr b="0" lang="fr-FR" sz="2800" spc="-1" strike="noStrike">
                <a:solidFill>
                  <a:srgbClr val="000000"/>
                </a:solidFill>
                <a:latin typeface="Book Antiqua"/>
              </a:rPr>
              <a:t> et unique commune-departament du pays, se situe au centre du Bassin parisiene, sur une boucle de la Seine, entre deux de ses confluents, avec la Marne en amont et l’Oise en aval. Ses habitants s’appellent les Parisiens. La ville est divisée en vingt arrondissements.</a:t>
            </a:r>
            <a:endParaRPr b="0" lang="en-US" sz="2800" spc="-1" strike="noStrike">
              <a:solidFill>
                <a:srgbClr val="ffffff"/>
              </a:solidFill>
              <a:latin typeface="Book Antiqua"/>
            </a:endParaRPr>
          </a:p>
        </p:txBody>
      </p:sp>
      <p:pic>
        <p:nvPicPr>
          <p:cNvPr id="85" name="Picture 2" descr="C:\Users\elev\Desktop\Carte-paris.gif"/>
          <p:cNvPicPr/>
          <p:nvPr/>
        </p:nvPicPr>
        <p:blipFill>
          <a:blip r:embed="rId2"/>
          <a:stretch/>
        </p:blipFill>
        <p:spPr>
          <a:xfrm>
            <a:off x="1116000" y="4292640"/>
            <a:ext cx="2347920" cy="2349360"/>
          </a:xfrm>
          <a:prstGeom prst="rect">
            <a:avLst/>
          </a:prstGeom>
          <a:ln w="0">
            <a:noFill/>
          </a:ln>
        </p:spPr>
      </p:pic>
      <p:pic>
        <p:nvPicPr>
          <p:cNvPr id="86" name="Picture 3" descr="C:\Users\elev\Desktop\carte-administrative-lambert-departements-Paris.jpg"/>
          <p:cNvPicPr/>
          <p:nvPr/>
        </p:nvPicPr>
        <p:blipFill>
          <a:blip r:embed="rId3"/>
          <a:stretch/>
        </p:blipFill>
        <p:spPr>
          <a:xfrm>
            <a:off x="3564000" y="4292640"/>
            <a:ext cx="2448000" cy="2324160"/>
          </a:xfrm>
          <a:prstGeom prst="rect">
            <a:avLst/>
          </a:prstGeom>
          <a:ln w="0">
            <a:noFill/>
          </a:ln>
        </p:spPr>
      </p:pic>
      <p:pic>
        <p:nvPicPr>
          <p:cNvPr id="87" name="Picture 4" descr="C:\Users\elev\Desktop\plan-metro-paris.gif"/>
          <p:cNvPicPr/>
          <p:nvPr/>
        </p:nvPicPr>
        <p:blipFill>
          <a:blip r:embed="rId4"/>
          <a:stretch/>
        </p:blipFill>
        <p:spPr>
          <a:xfrm>
            <a:off x="6227640" y="4292640"/>
            <a:ext cx="2305080" cy="232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475920"/>
            <a:ext cx="8229600" cy="583236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Book Antiqua"/>
              </a:rPr>
              <a:t>La Seine traverse la ville en formant un arc de cercle, y entrant par le sud-est pour en sortir au sud-ouest. Plus de trente ponts permettent de franchir le fleuve.</a:t>
            </a:r>
            <a:endParaRPr b="0" lang="en-US" sz="2800" spc="-1" strike="noStrike">
              <a:solidFill>
                <a:srgbClr val="ffffff"/>
              </a:solidFill>
              <a:latin typeface="Book Antiqua"/>
            </a:endParaRPr>
          </a:p>
        </p:txBody>
      </p:sp>
      <p:pic>
        <p:nvPicPr>
          <p:cNvPr id="89" name="Picture 2" descr="C:\Users\elev\Desktop\Pont_des_Arts,_Paris.jpg"/>
          <p:cNvPicPr/>
          <p:nvPr/>
        </p:nvPicPr>
        <p:blipFill>
          <a:blip r:embed="rId1"/>
          <a:stretch/>
        </p:blipFill>
        <p:spPr>
          <a:xfrm>
            <a:off x="468360" y="2924280"/>
            <a:ext cx="8207280" cy="25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620640"/>
            <a:ext cx="8229600" cy="5688000"/>
          </a:xfrm>
          <a:prstGeom prst="rect">
            <a:avLst/>
          </a:prstGeom>
          <a:noFill/>
          <a:ln w="0">
            <a:noFill/>
          </a:ln>
        </p:spPr>
        <p:txBody>
          <a:bodyPr lIns="90000" rIns="90000" tIns="46800" bIns="46800" anchor="t">
            <a:normAutofit fontScale="97000"/>
          </a:bodyPr>
          <a:p>
            <a:pPr marL="531000" indent="-3985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Book Antiqua"/>
              </a:rPr>
              <a:t>La tour Eiffel est une tour de fer puddlé de 324 mètres de hauteur (avec antennes) située à Paris, à l’extrémité nord-ouest du parc du Champ-de-Mars en bordure de la Seine dans le 7e arrondissement. Construite par Gustave Eiffel et ses collaborateurs pour l’Exposition universelle de Paris de 1889, et initialement nommée « tour de 300 mètres », ce monument est devenu le symbole de la capitale française, et un site touristique de premier plan : il s’agit du second site culturel français payant le plus visité en 2011, avec 7,1 millions de visiteurs dont 75 % d'étrangers en 2011, la cathédrale Notre-Dame de Paris étant en tête des monuments à l'accès libre avec 13,6 millions de visiteurs estimés1 mais il reste le monument payant le plus visité au monde2,note 1. Elle a accueilli son 250 millionième visiteur en 2010.</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C:\Users\elev\Desktop\Eiffel-Tower-paris-215498_1024_683.jpg"/>
          <p:cNvPicPr/>
          <p:nvPr/>
        </p:nvPicPr>
        <p:blipFill>
          <a:blip r:embed="rId1"/>
          <a:stretch/>
        </p:blipFill>
        <p:spPr>
          <a:xfrm>
            <a:off x="539640" y="692280"/>
            <a:ext cx="7988400" cy="53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836640"/>
            <a:ext cx="8229600" cy="5472000"/>
          </a:xfrm>
          <a:prstGeom prst="rect">
            <a:avLst/>
          </a:prstGeom>
          <a:noFill/>
          <a:ln w="0">
            <a:noFill/>
          </a:ln>
        </p:spPr>
        <p:txBody>
          <a:bodyPr lIns="90000" rIns="90000" tIns="46800" bIns="46800"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Book Antiqua"/>
              </a:rPr>
              <a:t>Les catacombes de Paris, terme improprement utilisé pour nommer l'ossuaire municipal, sont d'anciennes carrières souterraines situées dans le 14e arrondissement de Paris, reliées entre elles par des galeries d'inspection. Elles sont transformées en ossuaire à la fin du xviiie siècle avec le transfert des dépouilles de six millions de Parisiens, évacués des cimetières pour des raisons de salubrité publique. Elles prennent alors le nom de Catacombes, par analogie avec les nécropoles souterraines de la Rome antique, bien qu'elles n'aient quasiment jamais servi de sépulture initia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Users\elev\Desktop\800px-Paris_Catacombs_Entrance.jpg"/>
          <p:cNvPicPr/>
          <p:nvPr/>
        </p:nvPicPr>
        <p:blipFill>
          <a:blip r:embed="rId1"/>
          <a:stretch/>
        </p:blipFill>
        <p:spPr>
          <a:xfrm>
            <a:off x="684360" y="62064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620640"/>
            <a:ext cx="8229600" cy="5688000"/>
          </a:xfrm>
          <a:prstGeom prst="rect">
            <a:avLst/>
          </a:prstGeom>
          <a:noFill/>
          <a:ln w="0">
            <a:noFill/>
          </a:ln>
        </p:spPr>
        <p:txBody>
          <a:bodyPr lIns="90000" rIns="90000" tIns="46800" bIns="46800" anchor="t">
            <a:normAutofit/>
          </a:bodyPr>
          <a:p>
            <a:pPr marL="547560" indent="-4111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Book Antiqua"/>
              </a:rPr>
              <a:t>     </a:t>
            </a:r>
            <a:r>
              <a:rPr b="0" lang="fr-FR" sz="2600" spc="-1" strike="noStrike">
                <a:solidFill>
                  <a:srgbClr val="000000"/>
                </a:solidFill>
                <a:latin typeface="Book Antiqua"/>
              </a:rPr>
              <a:t>La cathédrale Notre-Dame de Paris, Notre-Dame de Paris ou Notre-Dame est la cathédrale de l’archidiocèse catholique de Paris.Elle est située sur la moitié Est de l’île de la Cité, dans le quatrième arrondissement de Paris. Sa façade occidentale domine le parvis Notre-Dame - place Jean-Paul-II. La construction s’étant étendue sur de nombreuses décennies (deux siècles), le style n’est donc pas d’une uniformité totale : elle possède ainsi des caractères du gothique primitif (voûtes sexpartites de la nef) et du gothique rayonnant. Les deux rosaces qui ornent chacun des bras du transept sont parmi les plus grandes d’Europe, et mesurent chacune 13 mètres de diamètre. Elle fut lors de son achèvement l'une des plus grandes cathédrales d’occident.</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C:\Users\elev\Desktop\800px-Notre-Dame_de_Paris-France.JPG"/>
          <p:cNvPicPr/>
          <p:nvPr/>
        </p:nvPicPr>
        <p:blipFill>
          <a:blip r:embed="rId1"/>
          <a:stretch/>
        </p:blipFill>
        <p:spPr>
          <a:xfrm>
            <a:off x="539640" y="1052640"/>
            <a:ext cx="8086680" cy="499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5T13:29:09Z</dcterms:created>
  <dc:creator>elev</dc:creator>
  <dc:description/>
  <dc:language>en-US</dc:language>
  <cp:lastModifiedBy>elev</cp:lastModifiedBy>
  <dcterms:modified xsi:type="dcterms:W3CDTF">2013-06-05T14:21:23Z</dcterms:modified>
  <cp:revision>8</cp:revision>
  <dc:subject/>
  <dc:title>Paris</dc:title>
</cp:coreProperties>
</file>